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B5B-3A35-498E-BFE8-C0CED211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D1A-8BC0-4374-8D36-085AFBFE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6D67-1038-4B29-9A4B-E19E2CDA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0050-D553-4598-81D2-146BC397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D30-6AFC-4F22-884F-D5028546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B52-09CA-47FA-8D50-6E89CA5E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8B3-36CD-4B82-B08C-767F3CD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FFC-3CAA-46CD-93A1-15167B8F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2DC-D397-4244-90AE-4E0822B0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69A-671B-4DD6-949C-03C2D09B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91C-C39B-4E6D-B4BE-A9CB344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942-B40B-49FF-A6D9-531B8ACA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EEC2-9235-460B-8529-01F35AE5C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1 – Lab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Use Case Diagra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s what the main functionality of the system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cares for the system’s expected behavior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 tha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do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Case Diagram: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or specifies a role that some external entity adopts when interacting with the system direct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present a role played b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us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ece of hardw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ors may be both at input and output ends of a use c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884320" y="4952880"/>
            <a:ext cx="4583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iagram: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Ca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s all the services required or performed by the ac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3733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truct a use case diagram for a library management system. The system is used by the librarian, the assistant librarian and the cli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ian, can add books, delete books, add clients, delete clients, list books, list clients, 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ssistant librarian has all the functionality of the librarian except for add/delete for books and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ents may only 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 -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the 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k for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nd the user ca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k for 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truct a use case diagram for a library management system. The system is used by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librari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assistant librari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ibrarian, can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add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delete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add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delete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list book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list 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assistant libraria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ll the functionality of the librarian except for add/delete for books and cl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Clie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y only </a:t>
            </a: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check in/out 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43000" y="819000"/>
            <a:ext cx="5058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a use case diagram for an online travel agency system. A new user can create a new profile with a username and a password. This profile can be changed at any time if the user wants. The user logs to the system using his/her username and passwor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logging into the system, the user inquires about different flights. The user can book, change or cancel a flight reservation. This includes choosing a payment method, and making a pay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9:32:45Z</dcterms:created>
  <dc:creator>Soha</dc:creator>
  <dc:description/>
  <dc:language>en-US</dc:language>
  <cp:lastModifiedBy>Soha</cp:lastModifiedBy>
  <dcterms:modified xsi:type="dcterms:W3CDTF">2009-04-07T09:27:34Z</dcterms:modified>
  <cp:revision>6</cp:revision>
  <dc:subject/>
  <dc:title>Use Case Diagrams</dc:title>
</cp:coreProperties>
</file>